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6F6B-F183-4FA5-8E32-55BA69C48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8982-07F9-4E6A-B513-BA3A5DE79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F63-6CC8-473A-95CE-3E591398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AE4-F810-4AE3-B46B-04456E1E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163-37F1-45D3-8EF2-79E92973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3D3-08FA-48B1-A1A5-25F109D8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F818-BE8C-4667-9343-EF30760A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319B-0962-4DDD-BAA6-BF9AC01B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45BC-775E-4C1F-B874-773F8865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73A6-7F6C-4E4D-8497-D29DADF1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FEB9-AD42-4B56-A1A4-FC345078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52DC-9407-4BC5-B5F4-60C2CCF7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5616-3CFB-4FAC-A998-C36E6741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E7D-2400-418A-9B22-9A81F5D4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7DC4-1D82-4F01-A42F-910142CE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9E1B-AED8-4A93-853A-951F2E31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FCDC-A26F-4209-883E-C1B99240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07B4-846F-464C-80D0-97BF17C2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D8F7-26CA-4A4E-8517-7ED17DE8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6AA3A-3B05-46F7-A9C0-46103202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26BEC-D479-46DB-AD58-E333F7C3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8CC5F-B7B8-4234-9DE5-8BA0DA8D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767A2-7674-412D-82E7-0EB94819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ED9C7-AF61-419D-A291-5279423A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C1F-84FA-4DD2-810C-DC80D36F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95881-D97C-4FA6-9535-8DAD2CE6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9B195-6C57-4029-B9EF-B36FEBAB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2D500-B3E5-4771-9AB3-4D0A7835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DB265-6956-4F7F-92F1-33CF6FF1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3547C-9970-4A29-BC25-E11ED320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FC5B7-B116-467E-9910-4D76B3DB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EF675-D1DE-4F52-97DC-DC328936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0462D-7F71-493A-A4B5-B37909A5F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8649-82E3-4D8E-A83F-E81FEF38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C2756-4E74-46F0-9A29-8A5A8F52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6E5-2D42-448C-A028-11B44896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24133-C459-412A-B848-336F4DAA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2FFA2-BDFE-4CB5-AEA1-265FD4CF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3BD6F-0F31-42A0-946B-FB5ED4CA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8F427-4A58-4BF0-9E23-02C73298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BBE78-A198-405A-99D8-14A6F536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1C9C3-2A0C-494E-B9F4-0C7EAD0F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BEB14-8709-4AD5-BF40-C2A77706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23B8D-2C82-4CB6-83A0-D362E84F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13407-37EA-4EED-8403-0F6B39E9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713-7EBC-4F10-A8CF-DB69A642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960-A569-449A-A38E-F1D249B0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750-61B5-4885-9E91-C25093D0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6F7-5654-4788-A088-6260AC9F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582-7CCA-4C3A-ACBC-FDD2C0BE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F862-5F55-4328-932D-112DED7EEEFB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CD4B-40B4-4988-AAC9-983F8AF02F1D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053A-AACA-4F3C-8DB7-DCDDF51297D5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7358-C5C8-429B-87EA-1B9B4F9E9097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F1D1-3EFA-41C8-9F27-D709076B27E1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B720-CD1A-4ACA-B513-E94D29A6A79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1B83-CADA-48A1-8FA0-36DB97B5C845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93FB-34F3-4F75-AA4F-A869672AE52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outh Dakota AFNR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Academic Integration Activities: Example #13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920" y="2323800"/>
            <a:ext cx="69580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student is given the equation for a supply curve for a sweet corn stand as p = .025x + 1. They would like to know the ideal price if they wanted to sell 144 dozen sweet corn in one day at a farmers market. What would that price be per dozen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swer: $4.6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.025(144) + 1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09480" y="190008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Verdana"/>
              </a:rPr>
              <a:t>Agribusiness Entrepreneurship students will be able to comprehend equivalent forms of algebraic expressions when studying supply and demand curve form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g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gribusiness Entrepreneurship, E 1.2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evelop management skills necessary to accomplish general business activiti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llustrate basic economic concepts to a given set of financial situations including opportunity cost, supply and demand and diminishing return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ademic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9-12.A.1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udents are able to write equivalent forms of algebraic expressions using properties of the set of real numbers (Comprehension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Evaluate algebraic expression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Use conventional order of operation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920" y="2323800"/>
            <a:ext cx="74152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en evaluating simple algebraic expressions, all unknowns (typically expressed as a letter) are replaced with real numbe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ample: 3x + 2x when x = 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lug in 5 for x to get 3(5) + 2 (5) = 15 + 10 = 25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order of operations for algebraic equations follow this sequence: parentheses – exponents – multiply – divide – add – subtrac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920" y="2323800"/>
            <a:ext cx="70344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4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student is given the equation for a demand line to be p = -1x +25 where p represents price per item sold and x is the number of items sold at that price. What would the ideal price need to be for a company to make and sell 20 items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lug 20 in for x and solve for p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-1(20) + 2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-20 + 2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 $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student is given the equation for a supply curve to be p = 2x +5 where p represents price per item sold and x is the number of items sold at that price. What would be the price needed for a company to make and sell just one item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lug 1 in for x and solve for p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62680" indent="-240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2(1) + 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62680" indent="-240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2 + 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62680" indent="-240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$7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920" y="2323800"/>
            <a:ext cx="69580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student is analyzing a demand curve for a business selling hay bales. They would like to know the quantity (x), of hay bales that could be sold at a price (p) of $25 per bale. The equation for the graph is p =- 2(x) + 35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920" y="2323800"/>
            <a:ext cx="69580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swer: 5 bal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 = -2(x) + 3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25 = -2x +3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25 – 35 = -2x = 35 – 3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-10  =  -2x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-10    -2x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-2      -2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x = 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Straight Connector 2"/>
          <p:cNvSpPr/>
          <p:nvPr/>
        </p:nvSpPr>
        <p:spPr>
          <a:xfrm>
            <a:off x="1781280" y="4784760"/>
            <a:ext cx="45720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"/>
          <p:cNvSpPr/>
          <p:nvPr/>
        </p:nvSpPr>
        <p:spPr>
          <a:xfrm>
            <a:off x="2438280" y="4784760"/>
            <a:ext cx="45720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2193480" y="458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 Matzner</cp:lastModifiedBy>
  <dcterms:modified xsi:type="dcterms:W3CDTF">2011-08-04T18:18:27Z</dcterms:modified>
  <cp:revision>95</cp:revision>
  <dc:subject/>
  <dc:title>South Dakota Ag Education</dc:title>
</cp:coreProperties>
</file>